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A7E-0936-4C70-A91D-A4B01A52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4B9-F302-4FF7-9ADB-C15DAC1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22D-88B4-4711-9193-6F69F1FC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926-87F2-4AF9-91A9-BFAC83B9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ED7-A43F-4188-A11D-9D8720D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97A-15CC-4B42-A04B-30130D86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4C5-6E66-4523-A6F9-99566AB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F28-B85A-490B-94DE-40E31436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9C3-6560-4FC0-AC3E-5803AA15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FDE-5D09-425F-87DE-76E8256C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1CF-00FE-4282-A1A0-7AAB78A3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9D6-D622-442F-A442-29794A69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E1C-A44E-48D9-958F-374BBBFE7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2 Na každý deň, môj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 môj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okoľvek sa 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, prosím, radu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dobrom i zlom čase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ies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ečne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pás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erným chystáš nový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om často blúd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kutky iných sú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lastný zrel som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ráč ma pýchy zba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teba vďačne slá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sť blížnych k tebe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úč slova do tmy svi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stu tvojich de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viesť sa chcem vždy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príde žiaľ, či úzk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silu tvoja blízk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chceš vždy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tvoja hriechy zmýv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tvoj kríž sa dí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smelo môže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dej, radosť dáva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práci požehná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drahší mi nad celý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59:38Z</dcterms:modified>
  <cp:revision>20</cp:revision>
  <dc:subject/>
  <dc:title>Je veľký náš Pán, on slávy je Kráľ Nech do všetkých strán  spev vrúcnych znie chvál.</dc:title>
</cp:coreProperties>
</file>